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type.wav" ContentType="audio/x-wav"/>
  <Override PartName="/ppt/media/image14.gif" ContentType="image/gif"/>
  <Override PartName="/ppt/media/image17.png" ContentType="image/png"/>
  <Override PartName="/ppt/media/image9.gif" ContentType="image/gif"/>
  <Override PartName="/ppt/media/explode.wav" ContentType="audio/x-wav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png" ContentType="image/png"/>
  <Override PartName="/ppt/media/image3.png" ContentType="image/png"/>
  <Override PartName="/ppt/media/applause.wav" ContentType="audio/x-wav"/>
  <Override PartName="/ppt/media/image12.gif" ContentType="image/gif"/>
  <Override PartName="/ppt/media/image18.gif" ContentType="image/gif"/>
  <Override PartName="/ppt/media/image16.gif" ContentType="image/gif"/>
  <Override PartName="/ppt/media/whoosh.wav" ContentType="audio/x-wav"/>
  <Override PartName="/ppt/media/voltage.wav" ContentType="audio/x-wav"/>
  <Override PartName="/ppt/media/image15.gif" ContentType="image/gif"/>
  <Override PartName="/ppt/media/image13.gif" ContentType="image/gif"/>
  <Override PartName="/ppt/media/push.wav" ContentType="audio/x-wav"/>
  <Override PartName="/ppt/media/image11.gif" ContentType="image/gif"/>
  <Override PartName="/ppt/media/image1.jpeg" ContentType="image/jpeg"/>
  <Override PartName="/ppt/media/image2.png" ContentType="image/png"/>
  <Override PartName="/ppt/media/suction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8F5-16D4-48E9-858A-A00D98EB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B43-360B-433D-81EF-CE042DD3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815-7270-404A-AE71-43695B95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3DD-6CC8-4480-A50E-38A34E14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839F5-4EB4-4621-90E6-A5989BBD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4D48-3479-4EEB-93F6-698A10BF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A28B-62FD-4032-9AF1-8806A584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F410-EAD5-4D7E-AAA8-BFFF38A0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01F6-8635-4B84-A338-B22BFF9B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0ED1-CA5C-4B16-B6BD-C9666B9A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54A9-E29B-4FEE-98CA-AF241BEC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6259-3C70-44F2-9CD6-926BDD05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A212-697D-41F9-888A-21D6086A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A18C-7E85-4671-BDED-D9CD1DE4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01BB-B197-4E01-8450-A8B4BE8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90E2-6C9A-485B-BFD5-13E079CE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F098-2BB1-4A3A-A608-3BBA3FFA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8ADA-12A1-4339-A7E4-D279436B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34BD0-A6E2-4596-9964-1AAB9332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7690-97BC-47EB-9FB4-C1E7EA20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861CD-4B86-4C03-8A26-22228A45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6BF35-B381-4189-AE69-D2464737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3A8-023B-487D-AEAB-5687EB70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C1CE0-C853-4508-A320-52291B30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FB43A-CEDC-45E0-802C-4B1A6A51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B113-7AC9-41B3-ABB7-91A8CA79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13E28-1626-4142-9B4F-51A11530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148FC-0311-4EFC-AF64-2ED6C428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92A9-A652-4E32-A0D3-CE622EAEA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9571F-08AF-4F5C-B57D-AE967A5C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45BE6-D640-4F05-A502-79146BA0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FAE7-220C-478A-9050-5967160F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0F732-47A8-464E-B1F7-E9D83B1C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27FC-3275-4941-9818-5574903E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ECF8A-1B3A-4CD8-BCB5-8BE387A9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F7B19-CF43-4A11-9DDF-A0CCEC6F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4FA19-21B8-41A2-AEC5-9BDDF198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06AE-6852-42B0-A41B-7CBEA6D3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33825-75DA-4338-83F6-5E581B71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092BD-6DB8-41A3-92DF-3E3CC9A2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6D12-31D2-4110-8176-2FB5DF7A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EE4B2-3576-44C8-A509-C2DDB8C6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A8236-044D-4F99-9EAE-3C7B5647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533-D240-47A4-BA01-33FB3079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7DB-4253-4568-A509-33024F81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639-6E4B-4834-86D3-B073124E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8C9F-64EA-4C23-87AB-B5B934CC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F12-8F6E-4B5D-9597-18FA2BC0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13A1-41B8-4A00-8CB0-ED0FB4856F8B}" type="slidenum">
              <a:rPr b="0" lang="en-US" sz="1200" spc="-1" strike="noStrike">
                <a:solidFill>
                  <a:srgbClr val="cce1f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E07E-08E6-446A-A174-3CD6740BB4F4}" type="slidenum">
              <a:rPr b="0" lang="en-US" sz="1200" spc="-1" strike="noStrike">
                <a:solidFill>
                  <a:srgbClr val="cce1f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8291-0089-4873-A203-68006512FFCD}" type="slidenum">
              <a:rPr b="0" lang="en-US" sz="1200" spc="-1" strike="noStrike">
                <a:solidFill>
                  <a:srgbClr val="cce1f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65E5-EC96-4892-9EB7-589CC755D05C}" type="slidenum">
              <a:rPr b="0" lang="en-US" sz="1200" spc="-1" strike="noStrike">
                <a:solidFill>
                  <a:srgbClr val="cce1f3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osoq.com/" TargetMode="External"/><Relationship Id="rId3" Type="http://schemas.openxmlformats.org/officeDocument/2006/relationships/image" Target="../media/image18.gi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ses3:81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sesftw.org/" TargetMode="External"/><Relationship Id="rId2" Type="http://schemas.openxmlformats.org/officeDocument/2006/relationships/hyperlink" Target="http://allsaintsupperschoollibrary.blogspot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-23760" y="835200"/>
            <a:ext cx="9253440" cy="251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MMj03547280000[1]"/>
          <p:cNvPicPr/>
          <p:nvPr/>
        </p:nvPicPr>
        <p:blipFill>
          <a:blip r:embed="rId2"/>
          <a:stretch/>
        </p:blipFill>
        <p:spPr>
          <a:xfrm>
            <a:off x="3733920" y="4267080"/>
            <a:ext cx="1981080" cy="1895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MMj03033040000[1]"/>
          <p:cNvPicPr/>
          <p:nvPr/>
        </p:nvPicPr>
        <p:blipFill>
          <a:blip r:embed="rId3"/>
          <a:stretch/>
        </p:blipFill>
        <p:spPr>
          <a:xfrm>
            <a:off x="6324480" y="4191120"/>
            <a:ext cx="2590920" cy="1717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MMj03180690000[1]"/>
          <p:cNvPicPr/>
          <p:nvPr/>
        </p:nvPicPr>
        <p:blipFill>
          <a:blip r:embed="rId4"/>
          <a:stretch/>
        </p:blipFill>
        <p:spPr>
          <a:xfrm>
            <a:off x="762120" y="4038480"/>
            <a:ext cx="2133360" cy="201132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5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What else is in the library?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Newspaper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Copier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tapler, tape, scissors,  etc. behind the circulation desk by printers – if these items go missing then they are gone for good - please return items after you use them! 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Quiet study room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24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</a:rPr>
              <a:t>Student information board in study room</a:t>
            </a:r>
            <a:endParaRPr b="0" lang="en-US" sz="25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4" name="Picture 28" descr="C:\Documents and Settings\kmoore.ASESCHOOL\Local Settings\Temporary Internet Files\Content.IE5\MZT9ON6X\MMj03546080000[1].gif"/>
          <p:cNvPicPr/>
          <p:nvPr/>
        </p:nvPicPr>
        <p:blipFill>
          <a:blip r:embed="rId1"/>
          <a:stretch/>
        </p:blipFill>
        <p:spPr>
          <a:xfrm>
            <a:off x="4800600" y="2895480"/>
            <a:ext cx="2438280" cy="152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9" descr="C:\Documents and Settings\kmoore.ASESCHOOL\Local Settings\Temporary Internet Files\Content.IE5\OHJRE0PY\MMj03546210000[1].gif"/>
          <p:cNvPicPr/>
          <p:nvPr/>
        </p:nvPicPr>
        <p:blipFill>
          <a:blip r:embed="rId2"/>
          <a:stretch/>
        </p:blipFill>
        <p:spPr>
          <a:xfrm>
            <a:off x="6095880" y="4648320"/>
            <a:ext cx="2590920" cy="1523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0" descr="C:\Documents and Settings\kmoore.ASESCHOOL\Local Settings\Temporary Internet Files\Content.IE5\T74ZLRR0\MMj03368320000[1].gif"/>
          <p:cNvPicPr/>
          <p:nvPr/>
        </p:nvPicPr>
        <p:blipFill>
          <a:blip r:embed="rId3"/>
          <a:stretch/>
        </p:blipFill>
        <p:spPr>
          <a:xfrm>
            <a:off x="7162920" y="1981080"/>
            <a:ext cx="1809720" cy="167652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voltag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603360" y="1060560"/>
            <a:ext cx="8547120" cy="12920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157a"/>
                </a:solidFill>
                <a:latin typeface="Constantia"/>
              </a:rPr>
              <a:t>This is the one place on campus where you can come to work in THE QUIET!!!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a157a"/>
                </a:solidFill>
                <a:latin typeface="Constantia"/>
              </a:rPr>
              <a:t>WELCOME TO THE UPPER SCHOOL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9" name="Picture 6" descr="Caricatu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1148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4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50720" y="6854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Library</a:t>
            </a:r>
            <a:r>
              <a:rPr b="1" lang="en-US" sz="5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Rules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 food or drink in the library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 Study hall passe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NO computer games, Facebook, or videos during the school day at all!!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0" name="Picture 12" descr="C:\Documents and Settings\kmoore.ASESCHOOL\Local Settings\Temporary Internet Files\Content.IE5\MZT9ON6X\MMAG00489_0000[1].gif"/>
          <p:cNvPicPr/>
          <p:nvPr/>
        </p:nvPicPr>
        <p:blipFill>
          <a:blip r:embed="rId1"/>
          <a:stretch/>
        </p:blipFill>
        <p:spPr>
          <a:xfrm>
            <a:off x="6095880" y="-990720"/>
            <a:ext cx="2229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  <p:sndAc>
      <p:stSnd>
        <p:snd r:embed="rId2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72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Rules cont.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mputers are for school projects onl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ust have a signed internet form before you acc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heck out – 20 school day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verdues - $.25 a day/per boo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port cards held if fines not paid/ books not returne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4" name="Picture 6" descr="MMj02835350000[1]"/>
          <p:cNvPicPr/>
          <p:nvPr/>
        </p:nvPicPr>
        <p:blipFill>
          <a:blip r:embed="rId1"/>
          <a:stretch/>
        </p:blipFill>
        <p:spPr>
          <a:xfrm>
            <a:off x="5486400" y="3352680"/>
            <a:ext cx="2819520" cy="273204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To log on the computers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You will have to log on with your user name and unique passwor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ll programs will ope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Various programs will be in these folder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11" descr="C:\Documents and Settings\kmoore.ASESCHOOL\Local Settings\Temporary Internet Files\Content.IE5\HM7N6L21\MMj02840000000[1].gif"/>
          <p:cNvPicPr/>
          <p:nvPr/>
        </p:nvPicPr>
        <p:blipFill>
          <a:blip r:embed="rId1"/>
          <a:stretch/>
        </p:blipFill>
        <p:spPr>
          <a:xfrm>
            <a:off x="762120" y="2743200"/>
            <a:ext cx="3487680" cy="2819520"/>
          </a:xfrm>
          <a:prstGeom prst="rect">
            <a:avLst/>
          </a:prstGeom>
          <a:ln w="0">
            <a:noFill/>
          </a:ln>
        </p:spPr>
      </p:pic>
    </p:spTree>
  </p:cSld>
  <p:transition>
    <p:plus/>
    <p:sndAc>
      <p:stSnd>
        <p:snd r:embed="rId2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56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Student Programs include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95280" y="2057400"/>
            <a:ext cx="381024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2007 Microsoft Word/Exc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Powerpoin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Calculato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4956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ncyclopedia Britannic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EBSCOHost Database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Gale Databa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roquest Databas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Library Reference/Card Catalog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Picture 6" descr="C:\Documents and Settings\kmoore.ASESCHOOL\Local Settings\Temporary Internet Files\Content.IE5\T74ZLRR0\MMj02544440000[1].gif"/>
          <p:cNvPicPr/>
          <p:nvPr/>
        </p:nvPicPr>
        <p:blipFill>
          <a:blip r:embed="rId1"/>
          <a:stretch/>
        </p:blipFill>
        <p:spPr>
          <a:xfrm>
            <a:off x="1600200" y="4800600"/>
            <a:ext cx="2190600" cy="16192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2" name="suctio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Microsoft Word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You can save to the network in your own private file on the </a:t>
            </a:r>
            <a:r>
              <a:rPr b="1" lang="en-US" sz="2000" spc="-1" strike="noStrike">
                <a:solidFill>
                  <a:srgbClr val="ea157a"/>
                </a:solidFill>
                <a:latin typeface="Constantia"/>
              </a:rPr>
              <a:t>H: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driv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Do not save to the desktop – it will disappea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iMacs work a bit differently especially when saving and opening documents. See me for help saving on the iMacs – you will lose your work if you do not save correctly!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Mrs. Moore </a:t>
            </a:r>
            <a:r>
              <a:rPr b="1" lang="en-US" sz="2000" spc="-1" strike="noStrike">
                <a:solidFill>
                  <a:srgbClr val="ea157a"/>
                </a:solidFill>
                <a:latin typeface="Constantia"/>
              </a:rPr>
              <a:t>highly 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recommends Zip/Flash driv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All information is “dumped” at each year en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4" name="Picture 7" descr="C:\Documents and Settings\kmoore.ASESCHOOL\Local Settings\Temporary Internet Files\Content.IE5\HM7N6L21\MMAG00280_0000[1].gif"/>
          <p:cNvPicPr/>
          <p:nvPr/>
        </p:nvPicPr>
        <p:blipFill>
          <a:blip r:embed="rId1"/>
          <a:stretch/>
        </p:blipFill>
        <p:spPr>
          <a:xfrm>
            <a:off x="5562720" y="2362320"/>
            <a:ext cx="3244680" cy="2971800"/>
          </a:xfrm>
          <a:prstGeom prst="rect">
            <a:avLst/>
          </a:prstGeom>
          <a:ln w="0">
            <a:noFill/>
          </a:ln>
        </p:spPr>
      </p:pic>
    </p:spTree>
  </p:cSld>
  <p:transition>
    <p:diamond/>
    <p:sndAc>
      <p:stSnd>
        <p:snd r:embed="rId2" name="push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a157a"/>
                </a:solidFill>
                <a:latin typeface="Calibri"/>
              </a:rPr>
              <a:t>Printing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Be sure you </a:t>
            </a:r>
            <a:r>
              <a:rPr b="1" lang="en-US" sz="2200" spc="-1" strike="noStrike">
                <a:solidFill>
                  <a:srgbClr val="ea157a"/>
                </a:solidFill>
                <a:latin typeface="Constantia"/>
              </a:rPr>
              <a:t>know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where you are printing your work. Look at the drop down arrow to select a printer 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re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are </a:t>
            </a:r>
            <a:r>
              <a:rPr b="1" lang="en-US" sz="2800" spc="-1" strike="noStrike">
                <a:solidFill>
                  <a:srgbClr val="ea157a"/>
                </a:solidFill>
                <a:latin typeface="Constantia"/>
              </a:rPr>
              <a:t>3</a:t>
            </a:r>
            <a:r>
              <a:rPr b="0" lang="en-US" sz="2200" spc="-1" strike="noStrike">
                <a:solidFill>
                  <a:srgbClr val="ea157a"/>
                </a:solidFill>
                <a:latin typeface="Constanti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printers in the Library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 Library Copi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 Library Printer 1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-238320">
              <a:spcBef>
                <a:spcPts val="55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US Library Printer 2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e do not have a color printer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Picture 2" descr="C:\Users\kmoore.ASESCHOOL.001\AppData\Local\Microsoft\Windows\Temporary Internet Files\Content.IE5\3C63H73V\MM900163119[1].gif"/>
          <p:cNvPicPr/>
          <p:nvPr/>
        </p:nvPicPr>
        <p:blipFill>
          <a:blip r:embed="rId1"/>
          <a:stretch/>
        </p:blipFill>
        <p:spPr>
          <a:xfrm>
            <a:off x="5486400" y="2438280"/>
            <a:ext cx="3054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0720" y="7617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Upper School Card Catalog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Over 9,500 books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Reference section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Bookbag your selection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Easy to find it on the shelf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9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Prints out in MLA forma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157a"/>
                </a:solidFill>
                <a:latin typeface="Calibri"/>
              </a:rPr>
              <a:t>The Library is on the All Saints’ Website @ </a:t>
            </a:r>
            <a:r>
              <a:rPr b="0" lang="en-US" sz="4000" spc="-1" strike="noStrike" u="sng">
                <a:solidFill>
                  <a:srgbClr val="eb8803"/>
                </a:solidFill>
                <a:uFillTx/>
                <a:latin typeface="Calibri"/>
                <a:hlinkClick r:id="rId1"/>
              </a:rPr>
              <a:t>www.asesftw.org</a:t>
            </a:r>
            <a:endParaRPr b="0" lang="en-US" sz="4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3011040"/>
            <a:ext cx="777240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pper School and Lower/Middle School Libra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onnect to the databases, encyclopedia, and card catalo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LA style manual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ctionari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ll Saints’ Upper School Library Blog @ </a:t>
            </a:r>
            <a:r>
              <a:rPr b="0" lang="en-US" sz="2400" spc="-1" strike="noStrike" u="sng">
                <a:solidFill>
                  <a:srgbClr val="eb8803"/>
                </a:solidFill>
                <a:uFillTx/>
                <a:latin typeface="Constantia"/>
                <a:hlinkClick r:id="rId2"/>
              </a:rPr>
              <a:t>http://allsaintsupperschoollibrary.blogspot.com/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8:39:08Z</dcterms:created>
  <dc:creator>Allsaints</dc:creator>
  <dc:description/>
  <dc:language>en-US</dc:language>
  <cp:lastModifiedBy>kmoore</cp:lastModifiedBy>
  <dcterms:modified xsi:type="dcterms:W3CDTF">2011-08-29T19:46:12Z</dcterms:modified>
  <cp:revision>86</cp:revision>
  <dc:subject/>
  <dc:title>Freshman Introduction to the Library</dc:title>
</cp:coreProperties>
</file>